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0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585-9B7F-444D-B1BE-792EAC62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1A6-5B9D-49E3-9522-5304188D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FCF-E03A-4AC7-ACC6-42460599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40E-F716-4332-A1AF-F3E481CB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3E6F-9797-4BE5-9F9E-99E4B761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DB68-C851-4E89-8D71-E20815AD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824F-567C-4A34-851A-018F9A2A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4F97-41FD-475A-BE02-735D4178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1441-D98E-49DB-8A66-ED76275F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E6C7-B118-42B8-9232-C1D80119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80CF-4281-4147-AC02-5437E590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1AC-907F-4034-B5CD-8ECDF859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27AE-914A-4584-BAF7-B5CC18B2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89C9-4A0B-4676-B848-11A40AD4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B0E1-B7FD-4B94-BBB1-111AB3A0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CBD8-CC81-455B-A3FF-8E4FB0E1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B611-DC7F-4475-98CA-8D829793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24F-1F2A-4A5E-8F51-6CFAD35C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DB0-948A-426F-8492-36558AF2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7A5-CD47-41AB-8A8B-3CD41A20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231-1E0E-418D-939A-9DF245C0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003-3D18-40BD-96BF-A34689F4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FB4-988F-4821-A7DE-43603456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C69E-DBDC-41F8-9C46-871A90CD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2D27-B05F-4252-B2A1-E7A83EA8F044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CDB5-D448-4E6A-B324-DFCE8E66E47D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mailto:dlipovscak@net.hr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google.hr/" TargetMode="External"/><Relationship Id="rId2" Type="http://schemas.openxmlformats.org/officeDocument/2006/relationships/hyperlink" Target="http://www.altavista.com/" TargetMode="External"/><Relationship Id="rId3" Type="http://schemas.openxmlformats.org/officeDocument/2006/relationships/hyperlink" Target="http://www.yahoo.com/" TargetMode="External"/><Relationship Id="rId4" Type="http://schemas.openxmlformats.org/officeDocument/2006/relationships/hyperlink" Target="http://www.hotbot.com/" TargetMode="Externa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33"/>
                </a:solidFill>
                <a:latin typeface="Garamond"/>
              </a:rPr>
              <a:t>Računalna mreža (Network)</a:t>
            </a: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 skup povezanih računala koja mogu međusobno razmjenjivati podat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OSNOVNA ZADAĆA: prijenos digitalnih podataka između fizički odvoje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j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 umrežavanje računala potrebna je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rojna i programska opr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2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čunala s </a:t>
            </a:r>
            <a:r>
              <a:rPr b="1" lang="hr-HR" sz="2000" spc="-1" strike="noStrike">
                <a:solidFill>
                  <a:srgbClr val="3b812f"/>
                </a:solidFill>
                <a:latin typeface="Arial"/>
              </a:rPr>
              <a:t>mrežnom kart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2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3b812f"/>
                </a:solidFill>
                <a:latin typeface="Arial"/>
              </a:rPr>
              <a:t>medij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za prijenos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2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3b812f"/>
                </a:solidFill>
                <a:latin typeface="Arial"/>
              </a:rPr>
              <a:t>uređaji za povezivanje  i upravljanj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munikacijom između račun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2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3b812f"/>
                </a:solidFill>
                <a:latin typeface="Arial"/>
              </a:rPr>
              <a:t>protokol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tj. pravila za prijenos podataka kroz mrež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4001"/>
          <p:cNvPicPr/>
          <p:nvPr/>
        </p:nvPicPr>
        <p:blipFill>
          <a:blip r:embed="rId1"/>
          <a:stretch/>
        </p:blipFill>
        <p:spPr>
          <a:xfrm>
            <a:off x="6172200" y="2819520"/>
            <a:ext cx="26668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259920"/>
            <a:ext cx="8229600" cy="58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ing topologija se sastoji od čvorova koji su povezani samo sa dva susjedna čvora, a prvi i posljednji su međusobno povezani tvoreći fizički k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Tre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topologija se sastoji od centralnog čvora koji je najviši u hijerarhijskom rasporedu čvorova i na njega spojenih čvorova koji se nalaze na sloju niže od njeg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esh topologija se sastoji od čvorova koji mogu imati direktne veze sa više ili sa svim čvorovima u mrež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281480" y="907920"/>
            <a:ext cx="1047600" cy="128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4048200" y="2781360"/>
            <a:ext cx="1514520" cy="99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3"/>
          <a:stretch/>
        </p:blipFill>
        <p:spPr>
          <a:xfrm>
            <a:off x="4010040" y="4797360"/>
            <a:ext cx="1076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Mrežni uređaj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1. Koncentrator (HU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ređaj na koji se priključuju sva računala u lokalnoj mreži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HUB dobivene podatke od jednog računala šalje svim ostalim računalima priključenim na njega bez obzira da li su im upuće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ema brzini prijenosa može biti 10Mb/s, 100 Mb/s ili 1 Gb/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ema broju priključaka 8, 16, 24 ili 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2268360" y="4508640"/>
            <a:ext cx="434052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2. Preklopnik ili (Switch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ametniji od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ma ugrađen mikroprocesor koji analizira pakete s podacima pa zna prenijeti podatke točno s jednog porta na dru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amti na kojem se portu nalazi koje račun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eća propusnost podat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0000"/>
                </a:solidFill>
                <a:latin typeface="Arial"/>
              </a:rPr>
              <a:t>3. Usmjernik ili (Rout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ređaj koji služi za povezivanje s drugim mrež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ko routera se LAN spaja na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335480" cy="2881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684360" y="3321000"/>
            <a:ext cx="4863960" cy="295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3"/>
          <a:stretch/>
        </p:blipFill>
        <p:spPr>
          <a:xfrm>
            <a:off x="5003640" y="836640"/>
            <a:ext cx="3902400" cy="319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4"/>
          <a:stretch/>
        </p:blipFill>
        <p:spPr>
          <a:xfrm>
            <a:off x="6084720" y="42210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Protokol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avila koja se primjenjuju kod prijenosa podataka između računala i računalnih mrež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P/IP -  protokol na dvije r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Viša razina TC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ruku koja se šalje usitnjava u manje pake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ijelovi poruke mogu putovati različitim putovima,a sastavljaju se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odredi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ža razina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nalazim put od jednog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računala do drug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156360" y="3716280"/>
            <a:ext cx="2232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odatak koji se šalje dijeli se u manje cjeline – pak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vaki paket sadrž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zaglavlje poruke (adresa primatelja i adresa pošiljatel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odatke u binarnom oblik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io za provjeru prijenos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vaki paket traži najmanje opterećen put do cil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24000" y="404640"/>
            <a:ext cx="82296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16320" indent="-29916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Pv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etiri grupe dekadskih brojeva odvojene točkom (0-2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92.168.1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2 bitna ad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x broj računala koja se mogu priključiti na internet  j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(4,3 milijar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Pv6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am grupa od po četiri heksadekadske vrijednosti međusobne odvoje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001:0db8:85a3:08d3:1319:8a2e:0370:733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28  bitna adresa - max broj adresa j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128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ili    3.4×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4028236692093846346337460743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11456  jedinstvenih ad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ako saznati adresu računal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Run &gt;cm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 Command prompt upisati ipconf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What is my 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ing ime stran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6633"/>
                </a:solidFill>
                <a:latin typeface="Garamond"/>
              </a:rPr>
              <a:t>Protokol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P i IMAP –za dolaznu poš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MTP – za odlaznu poš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ELNET – pristup udaljenom računa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HTTP- za prijenos hipertekstualnih datote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HTTPS   za prijenos hipertekstualnih datoteka ali preko sigurne ve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TP – za prijenos podataka između čvor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5737320" y="260280"/>
            <a:ext cx="28018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6633"/>
                </a:solidFill>
                <a:latin typeface="Garamond"/>
              </a:rPr>
              <a:t>Pojmovi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Intranet je lokalna mreža, mreža jednog poduzeć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Extranet je lokalna mreža organizacije koja je  djelomično dostupna i vanjskim korisnic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Internet “mreža svih mrež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Prednosti mreže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ovezivanje udaljenih računal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ijenos svih vrsta podatak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istup informacijama, bazama podataka i uslugama   diljem svijet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zajedničko korištenje strojne i programske   opreme u sastavu mrež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šteda prostora, vremena i novčanih troškov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Arial"/>
              </a:rPr>
              <a:t>online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kupovine, Internet bankarstva it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komunikacija iz doma sa ljudima iz cijelog svijeta (e-mail, razgovor, videokonferencije itd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razni zabavni sadržaji ( Internet, TV i radio, razne igric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korisnici na putu mogu biti 24 sata </a:t>
            </a:r>
            <a:r>
              <a:rPr b="0" i="1" lang="hr-HR" sz="2200" spc="-1" strike="noStrike">
                <a:solidFill>
                  <a:srgbClr val="000000"/>
                </a:solidFill>
                <a:latin typeface="Arial"/>
              </a:rPr>
              <a:t>online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utem svojih prijenosnih računala ili dlanovnik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384D-D156-41DB-B590-61FAB278BBAE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Pristupanje drugim mrež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Računalo s programima za spajanje i pregledavanje mrež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ređaj za povezivanje (modem, ISDN, ADSL) s telefonskom linij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korisnički račun kod IS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D0B9-4075-4F8C-90E6-C96CDCE7F624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6633"/>
                </a:solidFill>
                <a:latin typeface="Garamond"/>
              </a:rPr>
              <a:t>Uređaji za povezivanj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računalo spaja putem telefonske mreže na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laća se vrijeme provedeno na intern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etvara digitalne podatke u analogne i obrnu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brzina prijenosa je 56Kb/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brzina prijenosa podataka mjeri se u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bps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hr-HR" sz="2200" spc="-1" strike="noStrike">
                <a:solidFill>
                  <a:srgbClr val="000000"/>
                </a:solidFill>
                <a:latin typeface="Arial"/>
              </a:rPr>
              <a:t>bits per seconds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Kbps = 1000 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Mbps = 1000000 bps=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Gbps = 1000000000 bps=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997B-27BC-4179-8494-AD4232FAF646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SDN (Integrated Services Digital Networ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enosi telef. linijom digitalnu informacij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brzina prijenosa je nešto već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dan kanal 64Kb/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va kanala 128Kb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eza je kvalitetnija i stabilnija, a brzina prijenosa maksima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DSL – Asymetric Digital Subscriber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talno ste priključeni na interne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laća se količina prenesenih podata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brzina prijema i predaje (downloada i upload) podataka nije jednaka već različita (asimetrič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2Mbs/256 K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37CC-3A9A-499C-935D-58B36C63BCF1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4000" y="12808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def. Interneta – svjetska računalna mreža, koja povezuje velik broj manjih međusobno povezanih mreža  koje razmjenjuju podat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reža svih mrež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Internet mrež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A112-D47A-45A6-B724-264F0C649ACE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Povijest Interne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ethodnica Interneta - mreža ARP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1969. god razvija je Ministarstvo obrane SAD –umrežena  američka sveučiliš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ojekt kojim se trebalo istražiti kako direktno slati podatke s jednog računala na drugi bez memorijskog medi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1982. god prvi put se spominje kratica 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1983. god nastaju prve lokalne mrež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685476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C67F-02A1-4912-BB17-0115C5241BF0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95280" y="701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Osnovan 1991. god., a 1992. -CARNet se povezuje sa Internetom (postaje davatelj uslug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hrvatska akademska i istraživačka mrež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acionalna mreža i ustanova koja se bavi razvojem, izgradnjom i održavanjem cjelokupne mreže u Hrvatsko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okriva gotovo cijelu Hrvatsku, a glavno čvorište je u Zagreb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kstniOkvir 1"/>
          <p:cNvSpPr/>
          <p:nvPr/>
        </p:nvSpPr>
        <p:spPr>
          <a:xfrm>
            <a:off x="755640" y="333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A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76360" y="663480"/>
            <a:ext cx="540720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390600" y="128520"/>
            <a:ext cx="8362800" cy="6600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3"/>
          <a:stretch/>
        </p:blipFill>
        <p:spPr>
          <a:xfrm>
            <a:off x="324000" y="4687920"/>
            <a:ext cx="1382400" cy="2073240"/>
          </a:xfrm>
          <a:prstGeom prst="rect">
            <a:avLst/>
          </a:prstGeom>
          <a:ln w="0">
            <a:noFill/>
          </a:ln>
        </p:spPr>
      </p:pic>
      <p:sp>
        <p:nvSpPr>
          <p:cNvPr id="178" name="TekstniOkvir 3"/>
          <p:cNvSpPr/>
          <p:nvPr/>
        </p:nvSpPr>
        <p:spPr>
          <a:xfrm>
            <a:off x="5796000" y="5724360"/>
            <a:ext cx="252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8192/512 kbit/s brzine prijenosa podataka za šk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AAE8-D6EA-4649-B186-42C8B96A5F12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6633"/>
                </a:solidFill>
                <a:latin typeface="Garamond"/>
              </a:rPr>
              <a:t>Davatelji internetskih uslug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SP (Internet Service Provi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vrtka koja nudi uslugu pristupa Internetu (besplatno ili uz novčanu naknad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RH postoji nekoliko ISP-o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-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A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IP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loba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s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33"/>
                </a:solidFill>
                <a:latin typeface="Garamond"/>
              </a:rPr>
              <a:t>Vrste mreža prema udaljenosti računal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5280" y="981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22400" indent="-351000">
              <a:lnSpc>
                <a:spcPct val="2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ocal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rea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15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Računala na relativnom malom prostoru (ustanove, zgrade učion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15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Računala se povezuju kablovima ili bežič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2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 = Metropolitan Are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15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Računala povezana na nekom gradskom  ili širem područ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15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Skup povezanih lokalnih mreža u širu mrež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2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WA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ide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rea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15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Objedinjuje mnoge lokalne i gradske mrež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15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ajpoznatija WAN mreža je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5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AN =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Personal area network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graničena na samo nekoliko metara razdalj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970E-A793-49A0-A3F3-268F3E741A3B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bilježja internet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eđunarodan – čine ga računala diljem svij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Decentralizir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Javan – dostupan sv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odložan čestim promjen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Radi na načelu klijentsko-poslužiteljske tehnologi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ogućnosti su mu neograničene ( možemo kupovati, gledati film, čitati, učiti , igrati mrežne igr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E72F-71F3-41D3-885E-48E0B91D39B3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Usluge ili servisi na Internetu-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www – servis koji se temelji na hiperteks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TML – simbolički jezik za kreiranje hipertekstualnih dokum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maju nastavak .htm ili 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 hipertekstu neke riječi ili slike služe kao hiperveza prema drugim tekstov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operveze  - veze koje nas vode s jedne stranice na drug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e-mail – servis za razmjenu poru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Blog – javni mrežni dnevn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FTP (File Transfer Protoc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Web –mail - servis za razmjenu emaila preko w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Chat – servis za razmjenu poruka u realnom vreme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Društvene mreže – aplikacija za društveno umrežavnje (Facebook, Twitter,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WAP (Wireless Aplication Protocol)  usluga i protokol intern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070F-450D-4D84-A91F-E9CF161DFFE1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nternet telefonija (VOIP-Voice over Internet Protokol) – uspostava glasovne veze preko intern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Videokonferencije  - prijenos slike i zvuka mrežeom na više različitih lokacija radi održavnja sastanaka ili semin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čenje na dalj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Elektroničko kupovanje – naručivanje i plaćanje putem intern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Elektroničko bankarstvo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67CE-1147-4D3A-8D17-92B84095B8E8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6633"/>
                </a:solidFill>
                <a:latin typeface="Garamond"/>
              </a:rPr>
              <a:t>Korisnički raču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aki korisnik Interneta ima svoj korisnički račun  - dodjeljuje ga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efinirana su prava korištenja resursa na internetu i njihovo plać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ređen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ser-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biva se e-mail adresa i prostora za postavljanje web stra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F29A-9619-4DB8-8BCC-B98B6DEB34E1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Vrste adresa na mrež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dresom se jednoznačno određuju sudionici u mrež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Vrste adres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1. adrese za računala - 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2. adrese za mrežne resurse- UR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3. e-mail adre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A131-52E2-40FC-A6D4-D2DC100034EA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1. Adresa računala -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ako računalo u mreži dobiva jedinstvenu IP adre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to znate o IP adres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drese računala mogu bi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hr-HR" sz="2400" spc="-1" strike="noStrike">
                <a:solidFill>
                  <a:srgbClr val="0033cc"/>
                </a:solidFill>
                <a:latin typeface="Arial"/>
              </a:rPr>
              <a:t>brojčane adres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ogu bi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iksne – sta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inamičke – kod spajanja na Internet računalu se svaki puta dodijeli promjenjiva IP ad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155D-3E27-450C-8B49-40B6926FB1D0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hr-HR" sz="2400" spc="-1" strike="noStrike">
                <a:solidFill>
                  <a:srgbClr val="0033cc"/>
                </a:solidFill>
                <a:latin typeface="Arial"/>
              </a:rPr>
              <a:t>simboličke adres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računala - lakše se pamte od brojčanih adre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čunala razumiju samo brojčane IP adr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daća DNS-a je da brojčane IP adrese računala pretvori u  simboličku i obr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NS – Domain Na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2050920" y="4437000"/>
            <a:ext cx="493092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FBF9-2F6C-4F59-B278-858EEFDC37D8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6633"/>
                </a:solidFill>
                <a:latin typeface="Garamond"/>
              </a:rPr>
              <a:t>2. Adrese web stran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RL (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niform Resource Locato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tom adresom opisan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tokol (http, htt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ervis ili usluga (ww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me računala (sk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r  vršna do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ttp://www.skole.hr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2CAE-D573-4021-B980-99A474E7E9DD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Domen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glavne (vršne) domene označavaju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jelatnost  (troslovne dome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.com, .edu, .net, .org, .mil, .gov, .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Geografsku pripadnost(dvoslovne su simboli zemal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.hr, .ba, .si, .it, .de, .us, .u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Domena se registrira u CARNe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Domenu može registrirati svaka pravna osoba ili fizička oso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1F50-9EA7-435C-B76E-C5C1C80EA719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6633"/>
                </a:solidFill>
                <a:latin typeface="Garamond"/>
              </a:rPr>
              <a:t>3. e-mail adres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astoji se od korisničkog imena i naziva računala ili poslužit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na.ivic@skole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dlipovscak@net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4 2"/>
          <p:cNvPicPr/>
          <p:nvPr/>
        </p:nvPicPr>
        <p:blipFill>
          <a:blip r:embed="rId1"/>
          <a:stretch/>
        </p:blipFill>
        <p:spPr>
          <a:xfrm>
            <a:off x="990720" y="1268280"/>
            <a:ext cx="7467480" cy="3578400"/>
          </a:xfrm>
          <a:prstGeom prst="rect">
            <a:avLst/>
          </a:prstGeom>
          <a:ln w="0">
            <a:noFill/>
          </a:ln>
        </p:spPr>
      </p:pic>
      <p:sp>
        <p:nvSpPr>
          <p:cNvPr id="94" name="TekstniOkvir 4"/>
          <p:cNvSpPr/>
          <p:nvPr/>
        </p:nvSpPr>
        <p:spPr>
          <a:xfrm>
            <a:off x="755640" y="33336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mjer lokalne mre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4532-1E59-451F-A134-558E6B770CB8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Web preglednik (web Browser) – program koji se koristi za prikaz web stra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zilla Firef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p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Google Chr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af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stavke web pregled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umb - Prilagodi i kontroliraj Google Cr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drese koje često posjećujemo (favorites, bookmar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ookmark bar – traka oz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reiranje početne stranica –učitava se pokretanjem web pregled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vijest – popis posjećenih stranica Ctrl +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7218360" y="4102200"/>
            <a:ext cx="619200" cy="390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5940360" y="1370160"/>
            <a:ext cx="2822760" cy="1663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3"/>
          <a:stretch/>
        </p:blipFill>
        <p:spPr>
          <a:xfrm>
            <a:off x="5045040" y="1484280"/>
            <a:ext cx="571680" cy="504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"/>
          <p:cNvPicPr/>
          <p:nvPr/>
        </p:nvPicPr>
        <p:blipFill>
          <a:blip r:embed="rId4"/>
          <a:stretch/>
        </p:blipFill>
        <p:spPr>
          <a:xfrm>
            <a:off x="4933800" y="2349360"/>
            <a:ext cx="7430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73B4-1B7D-4CA7-98D0-770E73513F27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Web tražili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50752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earch engine – web tražilice program koji omogućuje pretraživanje intern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isujemo ključne riječi kojima želimo doći do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www.google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altavist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www.yaho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www.hotb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3E1D-7AFA-44AA-8CB8-48244D5D5765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koliko osnovnih pravila za pretraživanje – str. 114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ristiti se frazama unutar navod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traživači ne razlikuju velika i mala sl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doslijed kojim upisujemo pojmove utjecat će na rezultate pre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+ podrazumijeva da se u rezultatu pretrage nalazi i pojam koji je iza opera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podrazumijeva da se u rezultatu pretrage ne smije nalaziti riječ koja je iza opera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R znači da tražimo bar jednu od rije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* zamjenjuje znak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6C0B-16B0-4DE6-A571-294B9C841B82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06633"/>
                </a:solidFill>
                <a:latin typeface="Garamond"/>
              </a:rPr>
              <a:t>Elektronička pošta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F10E-F837-4B40-99AE-79D635BCEF73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vi učenici imaju svoj AAI@EduHr identit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Tim identitetom svaki učenik dobiva e-mail adresu oblika korisnik@skole.h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adržaj poruke dostavlja se u “elektronički poštanski sandučić” na poslužitelju (memorijski prostor na web poslužitelju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78A4-2228-4213-BE5A-7B19B36BF74A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Za slanje i primanje poruka potreban j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e-mail klijent – program instaliran na računa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Web m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E-mail klijenti preuzimaju poštu s poslužitelja na računalo dok korištenjem web mail pošta se čita na poslužitelj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EC3D-2AE4-49A2-A8CD-AD2943A1DD35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6633"/>
                </a:solidFill>
                <a:latin typeface="Garamond"/>
              </a:rPr>
              <a:t>Protokoli e-maila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luže za prijenos naših elektroničkih poruka s jednog računala na dru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OP3 (Post Office Protoco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lazni poslužitelj skida poruku s poslužitelja na vaše račun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kon toga se poruke na poslužiteljskom računalu briš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MTP (Simple Mail Transfer Protoco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lazni poslužitel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šalje poruku s vašeg na poslužiteljsko računalo te za razmjenu pošte između poslužiteljskih račun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IMAP (Internet Message Access Protoco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risti se za pristup poštanskom poslužitel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 razliku od POP protokola sve poruke se pregledavaju i uređuju na poslužitelju bez preuzimanja na osobno računa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MTA (Message Transfer Age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luži za dvostranu komunikaciju između serv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2411280" y="1463760"/>
            <a:ext cx="3641760" cy="3313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5315040" y="981000"/>
            <a:ext cx="1476360" cy="1200240"/>
          </a:xfrm>
          <a:prstGeom prst="rect">
            <a:avLst/>
          </a:prstGeom>
          <a:ln w="0">
            <a:noFill/>
          </a:ln>
        </p:spPr>
      </p:pic>
      <p:cxnSp>
        <p:nvCxnSpPr>
          <p:cNvPr id="235" name="Ravni poveznik sa strelicom 2"/>
          <p:cNvCxnSpPr/>
          <p:nvPr/>
        </p:nvCxnSpPr>
        <p:spPr>
          <a:xfrm flipV="1">
            <a:off x="4642920" y="1699920"/>
            <a:ext cx="108180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Ravni poveznik sa strelicom 4"/>
          <p:cNvCxnSpPr/>
          <p:nvPr/>
        </p:nvCxnSpPr>
        <p:spPr>
          <a:xfrm flipH="1">
            <a:off x="4642920" y="2012760"/>
            <a:ext cx="1008720" cy="47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7" name="TekstniOkvir 6"/>
          <p:cNvSpPr/>
          <p:nvPr/>
        </p:nvSpPr>
        <p:spPr>
          <a:xfrm>
            <a:off x="4919760" y="194148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A469-E033-45B6-B0DF-9F9ACE139B81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6633"/>
                </a:solidFill>
                <a:latin typeface="Garamond"/>
              </a:rPr>
              <a:t>Pravila pristojnosti- “Netiquette”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Biti kratak i jezgro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Koristiti kratke i jasne opise poruka u zaglavlj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Ne odgovarati na poruke neprimjerenog sadrža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akvo se izmjenjivanje poruka naziva Flaming, a sadržaj takvih poruka smatra se smećem (Trash, Junk Ma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ovjeravati pravopis poruka koje šalje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oruke ne pisati isključivo velikim slov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Ne prosljeđivati poruke ili dijelove poruka bez dopušte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64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Najpopularniji e-mail klijenti (programi)su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utlook Ex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Microsoft Outlo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Windows live 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Eudo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Thunderbi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EF90-98F2-4E6F-8FA6-759218548F85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Vrste mreža prema povezanost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ablovs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Wireles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kabeldka"/>
          <p:cNvPicPr/>
          <p:nvPr/>
        </p:nvPicPr>
        <p:blipFill>
          <a:blip r:embed="rId1"/>
          <a:stretch/>
        </p:blipFill>
        <p:spPr>
          <a:xfrm>
            <a:off x="3348000" y="1700280"/>
            <a:ext cx="2808360" cy="100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bežična mreža"/>
          <p:cNvPicPr/>
          <p:nvPr/>
        </p:nvPicPr>
        <p:blipFill>
          <a:blip r:embed="rId2"/>
          <a:stretch/>
        </p:blipFill>
        <p:spPr>
          <a:xfrm>
            <a:off x="3276720" y="3573360"/>
            <a:ext cx="26636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776160" y="480960"/>
            <a:ext cx="759168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681120" y="523800"/>
            <a:ext cx="77817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zgled prozora za primanje i slanje elektroničke pošte možemo podijeliti u tri ok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ma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Zaglavlja poruka (popisa poruk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adržaj poru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8F5A-5C57-419E-8510-2853B9F9D01E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7020000" y="3284640"/>
            <a:ext cx="14288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zervirano mjesto broja slajda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4908-E1C1-4E58-ACE7-727E69A004C5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5224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B43A-981C-41E4-A761-724A84985B12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ape u radu s e-mai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nb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utb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ent I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eleted I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raf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Primanje poruk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360" y="112536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alji/primi (Send/Recei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ogram se spaja sa prijavljenim poslužiteljem, pregledava i preuzima na računalo dolaznu poš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Naslovi poruka koji su nepročitani prikazani su podebljanim tekst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ko se s lijeve strane naslova poruke nalazi znak spajalice znači da u privitku postoji datote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9B66-A4F3-460E-87E4-31E3851D37DB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3419640" y="5229360"/>
            <a:ext cx="566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zor nove poru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Zaglavlje poru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o: e-mail adresu osobe kojoj šaljemo poru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Cc: kopija – sadržaj poruke daje se na znanje time osobama (više adresa odvaja se ;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Bcc:skrivene adrese, ne vide ih osobe koje su navedene u T0 i C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ubject – nasl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ilog (privitak, attachment)  kada uz poruku treba poslati sliku ili dulji tekst 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Važnost poruke (visoka, obična-normalna,nisk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adržaj poruk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F4F1-088F-44CC-A37B-8A22F662A529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7802640" y="5675400"/>
            <a:ext cx="792000" cy="473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>
            <a:off x="8028000" y="4149720"/>
            <a:ext cx="566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1B65-58F4-41A1-824A-61E707684B6A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6633"/>
                </a:solidFill>
                <a:latin typeface="Garamond"/>
              </a:rPr>
              <a:t>Gumbi za rad s porukama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dgovori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dgovori svima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iorit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slije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ivitak (Attachement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3203640" y="1773360"/>
            <a:ext cx="1081080" cy="388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"/>
          <p:cNvPicPr/>
          <p:nvPr/>
        </p:nvPicPr>
        <p:blipFill>
          <a:blip r:embed="rId2"/>
          <a:stretch/>
        </p:blipFill>
        <p:spPr>
          <a:xfrm>
            <a:off x="4211640" y="2421000"/>
            <a:ext cx="1512720" cy="299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"/>
          <p:cNvPicPr/>
          <p:nvPr/>
        </p:nvPicPr>
        <p:blipFill>
          <a:blip r:embed="rId3"/>
          <a:stretch/>
        </p:blipFill>
        <p:spPr>
          <a:xfrm>
            <a:off x="3276720" y="3500280"/>
            <a:ext cx="1295280" cy="4064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"/>
          <p:cNvPicPr/>
          <p:nvPr/>
        </p:nvPicPr>
        <p:blipFill>
          <a:blip r:embed="rId4"/>
          <a:stretch/>
        </p:blipFill>
        <p:spPr>
          <a:xfrm>
            <a:off x="2987640" y="2852640"/>
            <a:ext cx="1152720" cy="658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"/>
          <p:cNvPicPr/>
          <p:nvPr/>
        </p:nvPicPr>
        <p:blipFill>
          <a:blip r:embed="rId5"/>
          <a:stretch/>
        </p:blipFill>
        <p:spPr>
          <a:xfrm>
            <a:off x="4643280" y="2997360"/>
            <a:ext cx="1008360" cy="525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"/>
          <p:cNvPicPr/>
          <p:nvPr/>
        </p:nvPicPr>
        <p:blipFill>
          <a:blip r:embed="rId6"/>
          <a:stretch/>
        </p:blipFill>
        <p:spPr>
          <a:xfrm>
            <a:off x="5292720" y="3933720"/>
            <a:ext cx="144000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7F51-1A50-40A8-8515-B45E794CEC95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Adresar MS Outlook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906800" cy="4530600"/>
          </a:xfrm>
          <a:prstGeom prst="rect">
            <a:avLst/>
          </a:prstGeom>
          <a:ln w="0">
            <a:noFill/>
          </a:ln>
        </p:spPr>
      </p:pic>
      <p:sp>
        <p:nvSpPr>
          <p:cNvPr id="274" name="Line 4"/>
          <p:cNvSpPr/>
          <p:nvPr/>
        </p:nvSpPr>
        <p:spPr>
          <a:xfrm flipV="1">
            <a:off x="1476360" y="1268280"/>
            <a:ext cx="475128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6227640" y="112536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ovu ćemo osobu dodati klikom na gumb 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>
            <a:off x="1979640" y="2852640"/>
            <a:ext cx="41050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6227640" y="4221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dajemo novu grupu za raspodje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lačići (Cookies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– male tekstualne datoteke koje web mjesta spremaju na lokalno računalo radi pohrane informacija o korisniku i njegovim sklonostima. Te datoteke služe da se preskoče svi postupci ponovnog prijavljivanja na već posjećenu stranicu. Skraćuje se vrijeme učitavanja stra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ache ili keš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– mapa u koju preglednik pohranjuje stranice prilikom preuzimanja. Kada slijedeći put pristupamo tim podacima program provjerava je li bilo izmj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Firewall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zaštitna je granica koja nadzire i ograničava informacije koje putuju između vašeg računala i mreže na Internetu. Crta obrane protiv nekoga tko bi bez vašeg dopuštenja pokušao pristupiti vašem računa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8C06-6608-46AF-93C7-4A8518412549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33"/>
                </a:solidFill>
                <a:latin typeface="Garamond"/>
              </a:rPr>
              <a:t>Računalne mreže prema ulozi računala u mreži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9480" y="1485720"/>
            <a:ext cx="78152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Poslužitelj – korisnik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Server/Cli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Jedno glavno i više manjih račun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čunalo na koje se smještaju zajednički podaci i resu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godno za veće organizacije i sust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poslužitelj ima zadaću primati zahtjeve i podatke, obraditi podatke sukladno zahtjevu korisnika i poslati obrađene podatke natrag koris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poslužitelj je udaljeno računalo koje korisnik fizički ne v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nternet je najpoznatiji primjer client-server mre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1"/>
          <a:stretch/>
        </p:blipFill>
        <p:spPr>
          <a:xfrm>
            <a:off x="6767640" y="4005360"/>
            <a:ext cx="21351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471680" y="1438200"/>
            <a:ext cx="62006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Virus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irus - je program koji se pridružuje programima u računalu i čini štetu na datotekama, programima, hardveru ili pogoršava karakteristike rada računala. Prenosi se po mrež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irusi mog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 računalu korisnika oštećivati i brisati podatke, mijenjati nazive i smještaj datote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dirati podatke tako da korisnik do njih više ne može pristupi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ati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određene postupke korisnika, </a:t>
            </a:r>
            <a:r>
              <a:rPr b="0" lang="vi-VN" sz="1600" spc="-1" strike="noStrike">
                <a:solidFill>
                  <a:srgbClr val="0070c0"/>
                </a:solidFill>
                <a:latin typeface="Arial"/>
              </a:rPr>
              <a:t>npr., načine prijave, korisnička imena, zaporke, broj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artica i bankovnih računa, adresare korisnika. Sve prikupljene podatke o korisniku i od korisnika mogu poslati neovlaštenim korisnicima koji ih mogu zloupotrijebi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čina širenja viru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piranjem zaraženih programa i datote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lektroničkom poštom - obično u privitku pis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bog propusta u sigurnosnom sustavu Interneta moguće je pristupiti korisničkom računalu i na njemu instalirati vir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rste viru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rvi – programi koji umnožavaju sami sebe, a šire se preko mrež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rojanski konj- nalikuju na obične programe, a njihovim pokretanjem započinje njihovo destruktivno djelo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oax – lažna obavij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ware – programi koji prikazuju različite og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pyware – programi koji preuzimaju dio kontrole nad računalom kako bi se pridobila neka korist za treću osob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hishing- prijevara, navođenje korisnika na neželjeni postup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95280" y="14130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orba protiv viru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stalirati i redovno ažurirati antivirusni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tvarati samo datoteke iz provjerenih iz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ristiti se licenciranim program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 otvarati elektroničku poštu nepoznati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edovito ažurirati i instalirati ažuriranja operacijskog s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taviti vatrozid račun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 davati svoje podatke posebno lozinke drug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ntivirusni progra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poznaju viru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nemogućavaju njihovo djelovanj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poznaju zaražene datoteke (čiste ih ili predlažu njihovo brisanje iz računal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ntivirusni programi mogu biti besplatni ili komercijalni. Postoje  mnogi antivirusni programi str. 5-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Nabrojite 4 antivirusna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našanje računala zaraženog viru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poriji rad računa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ključavanje računala - popularno smrza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ušenje i ponovno podizanje operativnog susta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ispravan rad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dostupnost diskova ili diskovnih pogo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obične poruke o greška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eformirani i izmijenjeni izborni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250920" y="1341360"/>
            <a:ext cx="2752200" cy="1976040"/>
            <a:chOff x="250920" y="1341360"/>
            <a:chExt cx="2752200" cy="1976040"/>
          </a:xfrm>
        </p:grpSpPr>
        <p:pic>
          <p:nvPicPr>
            <p:cNvPr id="104" name="Picture 5" descr="unit_02"/>
            <p:cNvPicPr/>
            <p:nvPr/>
          </p:nvPicPr>
          <p:blipFill>
            <a:blip r:embed="rId1"/>
            <a:stretch/>
          </p:blipFill>
          <p:spPr>
            <a:xfrm>
              <a:off x="1224000" y="1341360"/>
              <a:ext cx="1097640" cy="109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6" descr="gnome-fs-client"/>
            <p:cNvPicPr/>
            <p:nvPr/>
          </p:nvPicPr>
          <p:blipFill>
            <a:blip r:embed="rId2"/>
            <a:stretch/>
          </p:blipFill>
          <p:spPr>
            <a:xfrm>
              <a:off x="2454480" y="2444040"/>
              <a:ext cx="54864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7" descr="gnome-fs-client"/>
            <p:cNvPicPr/>
            <p:nvPr/>
          </p:nvPicPr>
          <p:blipFill>
            <a:blip r:embed="rId3"/>
            <a:stretch/>
          </p:blipFill>
          <p:spPr>
            <a:xfrm>
              <a:off x="1224000" y="2768400"/>
              <a:ext cx="54864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" descr="gnome-fs-client"/>
            <p:cNvPicPr/>
            <p:nvPr/>
          </p:nvPicPr>
          <p:blipFill>
            <a:blip r:embed="rId4"/>
            <a:stretch/>
          </p:blipFill>
          <p:spPr>
            <a:xfrm>
              <a:off x="250920" y="2184840"/>
              <a:ext cx="548640" cy="549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8" name="AutoShape 9"/>
            <p:cNvCxnSpPr>
              <a:stCxn id="107" idx="0"/>
              <a:endCxn id="104" idx="1"/>
            </p:cNvCxnSpPr>
            <p:nvPr/>
          </p:nvCxnSpPr>
          <p:spPr>
            <a:xfrm flipH="1" flipV="1" rot="5400000">
              <a:off x="726840" y="1687680"/>
              <a:ext cx="295200" cy="699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AutoShape 10"/>
            <p:cNvCxnSpPr>
              <a:stCxn id="106" idx="0"/>
              <a:endCxn id="104" idx="2"/>
            </p:cNvCxnSpPr>
            <p:nvPr/>
          </p:nvCxnSpPr>
          <p:spPr>
            <a:xfrm flipH="1" flipV="1" rot="5400000">
              <a:off x="1470600" y="2466360"/>
              <a:ext cx="329760" cy="274680"/>
            </a:xfrm>
            <a:prstGeom prst="bentConnector3">
              <a:avLst>
                <a:gd name="adj1" fmla="val 499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0" name="AutoShape 11"/>
            <p:cNvCxnSpPr>
              <a:stCxn id="105" idx="0"/>
              <a:endCxn id="104" idx="3"/>
            </p:cNvCxnSpPr>
            <p:nvPr/>
          </p:nvCxnSpPr>
          <p:spPr>
            <a:xfrm flipV="1" rot="16200000">
              <a:off x="2247840" y="1962720"/>
              <a:ext cx="554040" cy="407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pic>
        <p:nvPicPr>
          <p:cNvPr id="111" name="Picture 13" descr=""/>
          <p:cNvPicPr/>
          <p:nvPr/>
        </p:nvPicPr>
        <p:blipFill>
          <a:blip r:embed="rId5"/>
          <a:stretch/>
        </p:blipFill>
        <p:spPr>
          <a:xfrm>
            <a:off x="1042920" y="3789360"/>
            <a:ext cx="537228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/>
          <p:cNvPicPr/>
          <p:nvPr/>
        </p:nvPicPr>
        <p:blipFill>
          <a:blip r:embed="rId6"/>
          <a:stretch/>
        </p:blipFill>
        <p:spPr>
          <a:xfrm>
            <a:off x="5364000" y="1355760"/>
            <a:ext cx="3049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1125360"/>
            <a:ext cx="59943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Peer To 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ključena računala su međusobno ravnopra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vako računalo može biti i poslužitelj i klij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godno za manja poduzeća ili kućnu upotr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651640" y="2133720"/>
            <a:ext cx="3130560" cy="1833480"/>
            <a:chOff x="5651640" y="2133720"/>
            <a:chExt cx="3130560" cy="1833480"/>
          </a:xfrm>
        </p:grpSpPr>
        <p:pic>
          <p:nvPicPr>
            <p:cNvPr id="115" name="Picture 5" descr="gnome-fs-client"/>
            <p:cNvPicPr/>
            <p:nvPr/>
          </p:nvPicPr>
          <p:blipFill>
            <a:blip r:embed="rId1"/>
            <a:stretch/>
          </p:blipFill>
          <p:spPr>
            <a:xfrm>
              <a:off x="5651640" y="27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6" descr="gnome-fs-client"/>
            <p:cNvPicPr/>
            <p:nvPr/>
          </p:nvPicPr>
          <p:blipFill>
            <a:blip r:embed="rId2"/>
            <a:stretch/>
          </p:blipFill>
          <p:spPr>
            <a:xfrm>
              <a:off x="6948720" y="213372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7" descr="gnome-fs-client"/>
            <p:cNvPicPr/>
            <p:nvPr/>
          </p:nvPicPr>
          <p:blipFill>
            <a:blip r:embed="rId3"/>
            <a:stretch/>
          </p:blipFill>
          <p:spPr>
            <a:xfrm>
              <a:off x="6732720" y="335772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8" descr="gnome-fs-client"/>
            <p:cNvPicPr/>
            <p:nvPr/>
          </p:nvPicPr>
          <p:blipFill>
            <a:blip r:embed="rId4"/>
            <a:stretch/>
          </p:blipFill>
          <p:spPr>
            <a:xfrm>
              <a:off x="8172720" y="278136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9" name="AutoShape 9"/>
            <p:cNvCxnSpPr>
              <a:stCxn id="115" idx="0"/>
              <a:endCxn id="116" idx="1"/>
            </p:cNvCxnSpPr>
            <p:nvPr/>
          </p:nvCxnSpPr>
          <p:spPr>
            <a:xfrm flipH="1" flipV="1" rot="5400000">
              <a:off x="6316560" y="2077920"/>
              <a:ext cx="272160" cy="9928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0" name="AutoShape 10"/>
            <p:cNvCxnSpPr>
              <a:stCxn id="116" idx="3"/>
              <a:endCxn id="118" idx="0"/>
            </p:cNvCxnSpPr>
            <p:nvPr/>
          </p:nvCxnSpPr>
          <p:spPr>
            <a:xfrm>
              <a:off x="7557840" y="2438640"/>
              <a:ext cx="919800" cy="3434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1" name="AutoShape 11"/>
            <p:cNvCxnSpPr>
              <a:stCxn id="118" idx="2"/>
              <a:endCxn id="117" idx="3"/>
            </p:cNvCxnSpPr>
            <p:nvPr/>
          </p:nvCxnSpPr>
          <p:spPr>
            <a:xfrm rot="5400000">
              <a:off x="7773120" y="2959200"/>
              <a:ext cx="272160" cy="1135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2" name="AutoShape 12"/>
            <p:cNvCxnSpPr>
              <a:stCxn id="117" idx="1"/>
              <a:endCxn id="115" idx="2"/>
            </p:cNvCxnSpPr>
            <p:nvPr/>
          </p:nvCxnSpPr>
          <p:spPr>
            <a:xfrm rot="10800000">
              <a:off x="5955840" y="3318840"/>
              <a:ext cx="776880" cy="343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pic>
        <p:nvPicPr>
          <p:cNvPr id="123" name="Picture 12" descr=""/>
          <p:cNvPicPr/>
          <p:nvPr/>
        </p:nvPicPr>
        <p:blipFill>
          <a:blip r:embed="rId5"/>
          <a:stretch/>
        </p:blipFill>
        <p:spPr>
          <a:xfrm>
            <a:off x="1619280" y="2924280"/>
            <a:ext cx="31003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Topologija mrež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podrazumijevamo fizički raspored račun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ar mrežna topologija se sastoji od središnjeg čvora  na kojega su kablovima direktno spojeni ostali čvorovi na mrež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(sabirnica, crta) topologija se sastoji od centralnog vodiča na koji su spojeni čvorovi koji komunicir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057560" y="2824200"/>
            <a:ext cx="1028880" cy="1209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4514760" y="5157720"/>
            <a:ext cx="11430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5:52:06Z</dcterms:created>
  <dc:creator>goran</dc:creator>
  <dc:description/>
  <dc:language>en-US</dc:language>
  <cp:lastModifiedBy>Siniša Siladić</cp:lastModifiedBy>
  <dcterms:modified xsi:type="dcterms:W3CDTF">2018-08-09T14:20:43Z</dcterms:modified>
  <cp:revision>206</cp:revision>
  <dc:subject/>
  <dc:title>Slajd 1</dc:title>
</cp:coreProperties>
</file>