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C50-BE3F-4FA0-8EA6-A573056F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2E9-F45A-46D0-9212-4C900672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EAE-580E-4018-A60D-B5C9747A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CBF-70D3-4EB4-AE11-BD7BD607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386B-E1BB-4413-AFDC-45109EA5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2F06-3733-4C81-AA5A-37B77191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690B-B596-439D-A42D-D0196269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419D-D156-43FE-BC97-56ADACDB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CBEC-C0C6-4643-8B9F-24812F96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C412-5827-4593-BC4A-047BDF77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192E-C337-4550-B83B-4E391778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BB9-9DA4-42D1-8EAA-A49F61B9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9993-A0AE-43FD-9A0A-393A30CD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3206-A3DA-4125-8F74-F4144AD6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AC30-44A4-4768-82B0-EFB97E67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7E53-506F-4777-B95D-B8B30D70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D0CB-DD13-4D12-8C53-EB1FBE5B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65220-E24C-4099-8301-3DE8928D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1523-70B1-4025-964D-DE3D64EC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1F91-7CF2-4406-A5CC-83EE31F5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65A0-EBE8-4E98-BCE6-8F11AE2C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D8D0-D6DA-4B26-A678-B8EE7BA1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418-523F-4A4A-B37A-530C47E1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7B79-0021-4AA1-BC3E-ACBFB390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194B-1C03-4786-B80B-F8D22E1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379C-71BC-404E-810A-4F567962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4ECB6-34A4-4A16-A838-EE51E693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88F0-7BA5-4EE3-885F-2A9F1D56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066E0-39FD-43F9-BD1F-73630072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84C49-96C0-43E9-91A7-8C2084EA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548B9-E9C4-46C8-AE65-964A6256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E05E9-F89B-43CC-B642-725774A1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CDA9-BCAB-410B-8794-5E4D6B5A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551-113B-4D1D-8B6D-36902D92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B314-7B6F-4837-A408-10B049FE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B196-39CA-4800-B5E6-028D1A10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C26B8-D877-499E-AAE0-295107AC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52EA-3538-4F8E-A58A-F7169D0B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6991C-505E-435E-A5E3-385C6945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76CB-E772-4C46-88FF-3AD1E94A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5B3A1-CC9F-4E20-BB94-71A322BC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7D924-C97C-46CD-BFD3-1C0A1A3F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D477B-E32B-408E-BCD3-E4B0B101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F6F3B-A846-45D8-9341-88B69303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A10-8297-47CB-B47B-A8F049C1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5398C-7C58-4ABF-9CF3-ACA9C41D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A813B-7A5A-41E9-A72D-99D15609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B1D3B-599C-4CC7-AF6C-3B2579A8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16044-A2BB-4B56-B678-15A549AA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645E7-45AD-4EDF-A3ED-722F4697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A4ABC-D050-4A51-8AFB-5D062AFF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E380D-BE24-4220-91C6-438FD4B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F6D66-A264-4B8D-8B16-77C2497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25B55-D678-4463-BD3F-96F1DF39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4E717-7F11-401B-B037-06F5F7A3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77B-9747-4D27-9352-373EE925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DA7C6-C94A-44FF-9708-C9FE6B1E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0156-6B34-4C88-B0A1-3B9C7816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3D62E-8A23-493A-BA86-880E06F1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AA659-3769-474C-BF65-D7E7A60D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13C80-EAF9-4868-995D-AAEC101A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B08B2-AF08-497D-BDF1-D18CC7AF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45AB5-3C2D-4B67-B860-F71D4894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BA1E8-AAAC-4F30-B360-F7C29992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D2F9A-66B6-4006-A070-D234A14D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19451-313E-477B-94BC-661656C5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8BB-1AA7-491C-90A3-20A802E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F53A6-03AE-4E05-9733-58B678AA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37405-56ED-4141-BCC6-E5D3DEC8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F3005-CF05-4DEF-9AA8-C27A2A1D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A5D-EAE8-42A9-9CA8-E3E479E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2E7-EF1F-4949-B5D4-EDDC1506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avni poveznik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just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just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just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9F04-DC2F-41CF-97FD-926E3616D929}" type="slidenum">
              <a:rPr b="0" lang="hr-HR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kutni troku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988025"/>
              </a:gs>
              <a:gs pos="50000">
                <a:srgbClr val="e8cd6c"/>
              </a:gs>
              <a:gs pos="100000">
                <a:srgbClr val="98802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Prostoručno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4d7a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rostoručno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Prostoručno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Prostoručno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avni poveznik 20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just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just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just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44D3-7C11-4B94-815B-C230187204D0}" type="slidenum">
              <a:rPr b="0" lang="hr-H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avni poveznik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Š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Š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just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just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just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2982-4049-474B-BD2D-467977F52853}" type="slidenum">
              <a:rPr b="0" lang="hr-HR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just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just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just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57CA-CDAB-4EB7-8985-4CEEA6FFECE9}" type="slidenum">
              <a:rPr b="0" lang="hr-HR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just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just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just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1701-0533-4509-8ABB-6852336352E2}" type="slidenum">
              <a:rPr b="0" lang="hr-HR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rostoručno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ručno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Pravokutni trokut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Pravokutni trokut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Ravni poveznik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Š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Š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just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just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just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just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04D6-D4C4-450E-B05A-55E35F5990BF}" type="slidenum">
              <a:rPr b="0" lang="hr-HR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Naslov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9676d"/>
                </a:solidFill>
                <a:latin typeface="Calibri"/>
              </a:rPr>
              <a:t>Nastavna cjelina:</a:t>
            </a:r>
            <a:br>
              <a:rPr sz="2800"/>
            </a:br>
            <a:r>
              <a:rPr b="0" lang="hr-HR" sz="2800" spc="-1" strike="noStrike">
                <a:solidFill>
                  <a:srgbClr val="69676d"/>
                </a:solidFill>
                <a:latin typeface="Calibri"/>
              </a:rPr>
              <a:t>Mreže i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Prijenos jedne datoteke u mreži se ne obavlja odjednom kao kontinuirani niz bitova. Umjesto toga, </a:t>
            </a:r>
            <a:r>
              <a:rPr b="0" lang="hr-HR" sz="2700" spc="-1" strike="noStrike">
                <a:solidFill>
                  <a:srgbClr val="0070c0"/>
                </a:solidFill>
                <a:latin typeface="Calibri"/>
              </a:rPr>
              <a:t>datoteka se dijeli u male dijelove koji se zovu paketi koji se šalju mrežom, pa se takav način prijenosa naziva </a:t>
            </a:r>
            <a:r>
              <a:rPr b="1" lang="hr-HR" sz="2700" spc="-1" strike="noStrike">
                <a:solidFill>
                  <a:srgbClr val="0070c0"/>
                </a:solidFill>
                <a:latin typeface="Calibri"/>
              </a:rPr>
              <a:t>paketni prijenos podataka</a:t>
            </a:r>
            <a:r>
              <a:rPr b="0" lang="hr-HR" sz="27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70c0"/>
                </a:solidFill>
                <a:latin typeface="Calibri"/>
              </a:rPr>
              <a:t>Svaki paket sastoji se iz tri dijela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just">
              <a:spcBef>
                <a:spcPts val="326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Calibri"/>
              </a:rPr>
              <a:t>zaglavlja (Header) </a:t>
            </a:r>
            <a:r>
              <a:rPr b="0" lang="hr-HR" sz="2300" spc="-1" strike="noStrike">
                <a:solidFill>
                  <a:srgbClr val="000000"/>
                </a:solidFill>
                <a:latin typeface="Calibri"/>
              </a:rPr>
              <a:t>– sadrži podatke o primatelju i pošiljatelju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just">
              <a:spcBef>
                <a:spcPts val="326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Calibri"/>
              </a:rPr>
              <a:t>tijelo sa podacim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just">
              <a:spcBef>
                <a:spcPts val="326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Calibri"/>
              </a:rPr>
              <a:t>začelje (Flag) </a:t>
            </a:r>
            <a:r>
              <a:rPr b="0" lang="hr-HR" sz="2300" spc="-1" strike="noStrike">
                <a:solidFill>
                  <a:srgbClr val="000000"/>
                </a:solidFill>
                <a:latin typeface="Calibri"/>
              </a:rPr>
              <a:t>– dio paketa namjenjen provjeri ispravnosti isporuk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Računalo-pošiljatelj dijeli datoteku na pakete i šalje ih u mrežu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70c0"/>
                </a:solidFill>
                <a:latin typeface="Calibri"/>
              </a:rPr>
              <a:t>Mrežni uređaji koji se zovu </a:t>
            </a:r>
            <a:r>
              <a:rPr b="1" lang="hr-HR" sz="2500" spc="-1" strike="noStrike">
                <a:solidFill>
                  <a:srgbClr val="0070c0"/>
                </a:solidFill>
                <a:latin typeface="Calibri"/>
              </a:rPr>
              <a:t>usmjernici (</a:t>
            </a:r>
            <a:r>
              <a:rPr b="1" i="1" lang="hr-HR" sz="2500" spc="-1" strike="noStrike">
                <a:solidFill>
                  <a:srgbClr val="0070c0"/>
                </a:solidFill>
                <a:latin typeface="Calibri"/>
              </a:rPr>
              <a:t>router</a:t>
            </a:r>
            <a:r>
              <a:rPr b="1" lang="hr-HR" sz="2500" spc="-1" strike="noStrike">
                <a:solidFill>
                  <a:srgbClr val="0070c0"/>
                </a:solidFill>
                <a:latin typeface="Calibri"/>
              </a:rPr>
              <a:t>) </a:t>
            </a:r>
            <a:r>
              <a:rPr b="0" lang="hr-HR" sz="2500" spc="-1" strike="noStrike">
                <a:solidFill>
                  <a:srgbClr val="0070c0"/>
                </a:solidFill>
                <a:latin typeface="Calibri"/>
              </a:rPr>
              <a:t>odabiru najbolji put kroz labirint mreže do računala primatelja. 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Treba napomenuti da na tom putu paket može proći i nekoliko usmjernika sve dok ne dođe do onog koji je najbliži primatelj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70c0"/>
                </a:solidFill>
                <a:latin typeface="Calibri"/>
              </a:rPr>
              <a:t>Računalo-primatelj provjerava ispravnost paketa i ako je sve u redu, spaja ga sa pristiglim paketima kako bi po završetku isporuke primatelj dobio istu datote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Ako je iz nekog razloga paket neispravan ili nije stigao na odredište, pošiljatelj dobiva poruku da ponovi slanje tog pake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Kako bi prijenos podataka bio uspješan, i računala i mrežni uređaji se moraju držati dogovorenih pravila. </a:t>
            </a:r>
            <a:r>
              <a:rPr b="0" lang="hr-HR" sz="2700" spc="-1" strike="noStrike">
                <a:solidFill>
                  <a:srgbClr val="0070c0"/>
                </a:solidFill>
                <a:latin typeface="Calibri"/>
              </a:rPr>
              <a:t>Skup tih pravila nazivaju se norma za prijenos (protokol). Najpoznatija norma za prijenos je </a:t>
            </a:r>
            <a:r>
              <a:rPr b="1" lang="hr-HR" sz="2700" spc="-1" strike="noStrike">
                <a:solidFill>
                  <a:srgbClr val="0070c0"/>
                </a:solidFill>
                <a:latin typeface="Calibri"/>
              </a:rPr>
              <a:t>TCP/IP</a:t>
            </a:r>
            <a:r>
              <a:rPr b="0" lang="hr-HR" sz="2700" spc="-1" strike="noStrike">
                <a:solidFill>
                  <a:srgbClr val="0070c0"/>
                </a:solidFill>
                <a:latin typeface="Calibri"/>
              </a:rPr>
              <a:t> na kojoj se temelji Interne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70c0"/>
                </a:solidFill>
                <a:latin typeface="Calibri"/>
              </a:rPr>
              <a:t>Naziv TCP/IP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potječe od dvije najčešće korištene norme za prijenos: </a:t>
            </a:r>
            <a:r>
              <a:rPr b="0" lang="hr-HR" sz="2700" spc="-1" strike="noStrike">
                <a:solidFill>
                  <a:srgbClr val="0070c0"/>
                </a:solidFill>
                <a:latin typeface="Calibri"/>
              </a:rPr>
              <a:t>TCP (</a:t>
            </a:r>
            <a:r>
              <a:rPr b="0" i="1" lang="hr-HR" sz="2700" spc="-1" strike="noStrike">
                <a:solidFill>
                  <a:srgbClr val="0070c0"/>
                </a:solidFill>
                <a:latin typeface="Calibri"/>
              </a:rPr>
              <a:t>Transmission Control Protocol</a:t>
            </a:r>
            <a:r>
              <a:rPr b="0" lang="hr-HR" sz="2700" spc="-1" strike="noStrike">
                <a:solidFill>
                  <a:srgbClr val="0070c0"/>
                </a:solidFill>
                <a:latin typeface="Calibri"/>
              </a:rPr>
              <a:t>) i IP (</a:t>
            </a:r>
            <a:r>
              <a:rPr b="0" i="1" lang="hr-HR" sz="2700" spc="-1" strike="noStrike">
                <a:solidFill>
                  <a:srgbClr val="0070c0"/>
                </a:solidFill>
                <a:latin typeface="Calibri"/>
              </a:rPr>
              <a:t>Internet Protocol</a:t>
            </a:r>
            <a:r>
              <a:rPr b="0" lang="hr-HR" sz="2700" spc="-1" strike="noStrike">
                <a:solidFill>
                  <a:srgbClr val="0070c0"/>
                </a:solidFill>
                <a:latin typeface="Calibri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1480680"/>
            <a:ext cx="825804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70c0"/>
                </a:solidFill>
                <a:latin typeface="Calibri"/>
              </a:rPr>
              <a:t>Kako bi paketi u računalnoj mreži sigurno stigli do odredišta, računala i usmjernici (</a:t>
            </a:r>
            <a:r>
              <a:rPr b="0" i="1" lang="hr-HR" sz="2000" spc="-1" strike="noStrike">
                <a:solidFill>
                  <a:srgbClr val="0070c0"/>
                </a:solidFill>
                <a:latin typeface="Calibri"/>
              </a:rPr>
              <a:t>router</a:t>
            </a:r>
            <a:r>
              <a:rPr b="0" lang="hr-HR" sz="2000" spc="-1" strike="noStrike">
                <a:solidFill>
                  <a:srgbClr val="0070c0"/>
                </a:solidFill>
                <a:latin typeface="Calibri"/>
              </a:rPr>
              <a:t>) moraju imati svoje adrese. Te adrese se nazivaju </a:t>
            </a:r>
            <a:r>
              <a:rPr b="1" lang="hr-HR" sz="2000" spc="-1" strike="noStrike">
                <a:solidFill>
                  <a:srgbClr val="0070c0"/>
                </a:solidFill>
                <a:latin typeface="Calibri"/>
              </a:rPr>
              <a:t>IP adre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70c0"/>
                </a:solidFill>
                <a:latin typeface="Calibri"/>
              </a:rPr>
              <a:t>Svako računalo i usmjernik na Internetu ima jedinstvenu IP adres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70c0"/>
                </a:solidFill>
                <a:latin typeface="Calibri"/>
              </a:rPr>
              <a:t>IP adresa sastoji se od 32 bita tj. 4 bajta (byte), koji se kod zapisa odvajaju točkam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etvorimo li te binarne brojeve u dekadske dobit ćemo IP adresu u dekadskom obliku (npr.: 193.198.184.15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nači, svaki od 4 bajta (byte) zapisuje se decimalno (svaki bajt ima vrijednost 0 do 255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bin_dec"/>
          <p:cNvPicPr/>
          <p:nvPr/>
        </p:nvPicPr>
        <p:blipFill>
          <a:blip r:embed="rId2"/>
          <a:stretch/>
        </p:blipFill>
        <p:spPr>
          <a:xfrm>
            <a:off x="2027160" y="4500720"/>
            <a:ext cx="513252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700" spc="-1" strike="noStrike">
                <a:solidFill>
                  <a:srgbClr val="0070c0"/>
                </a:solidFill>
                <a:latin typeface="Calibri"/>
              </a:rPr>
              <a:t>Za prikaz mrežne adrese računala dvokliknite na ikonu Mrežne veze (Network Connection) u sustavskom pregradku ili kliknite redom na Start → Povezivanje s (Connect to) → Prikaži sve mrežne veze (Show all Network Connections) te u novootvorenom prozoru Mrežne veze (Network Connections) dvokliknite na oznaku mrežne vez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70c0"/>
                </a:solidFill>
                <a:latin typeface="Calibri"/>
              </a:rPr>
              <a:t>Norma za prijenos</a:t>
            </a:r>
            <a:r>
              <a:rPr b="0" lang="hr-HR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hr-HR" sz="2500" spc="-1" strike="noStrike">
                <a:solidFill>
                  <a:srgbClr val="000000"/>
                </a:solidFill>
                <a:latin typeface="Calibri"/>
              </a:rPr>
              <a:t>Protocol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) – skup dogovorenih pravila kojima se određuje način prijenosa podataka u mreži i općenito način komunikacije između računala u mrež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70c0"/>
                </a:solidFill>
                <a:latin typeface="Calibri"/>
              </a:rPr>
              <a:t>IP adresa</a:t>
            </a:r>
            <a:r>
              <a:rPr b="0" lang="hr-HR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– jedinstvena adresa računala ili nekog mrežnog uređaja koji je priključen na mrežu zbog komunikacije sa drugim uređajim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70c0"/>
                </a:solidFill>
                <a:latin typeface="Calibri"/>
              </a:rPr>
              <a:t>Paketni prijenos podataka</a:t>
            </a:r>
            <a:r>
              <a:rPr b="0" lang="hr-HR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– način razmjene podataka između računala u mreži na način da se podaci dijele u pake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70c0"/>
                </a:solidFill>
                <a:latin typeface="Calibri"/>
              </a:rPr>
              <a:t>Ipconfig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- dijagnostička naredba koja, između ostalog, prikazuje IP adresu računal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70c0"/>
                </a:solidFill>
                <a:latin typeface="Calibri"/>
              </a:rPr>
              <a:t>Ping</a:t>
            </a:r>
            <a:r>
              <a:rPr b="0" lang="hr-HR" sz="2500" spc="-1" strike="noStrike">
                <a:solidFill>
                  <a:srgbClr val="0070c0"/>
                </a:solidFill>
                <a:latin typeface="Calibri"/>
              </a:rPr>
              <a:t> -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dijagnostička naredba koja testira IP vezu između dva računal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Naslov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6:54:58Z</dcterms:created>
  <dc:creator>HP Mobile</dc:creator>
  <dc:description/>
  <dc:language>en-US</dc:language>
  <cp:lastModifiedBy>Dorijan Tišljar</cp:lastModifiedBy>
  <dcterms:modified xsi:type="dcterms:W3CDTF">2019-05-20T12:08:45Z</dcterms:modified>
  <cp:revision>47</cp:revision>
  <dc:subject/>
  <dc:title>Nastavna cjelina: 1. Jezik računala Kataloška tema: 1.1. Bit 1.2. Brojevi zapisani četvorkom bitova Nastavna jedinica: 1.1. Bit   1.2. Brojevi zapisani četvorkom bitova</dc:title>
</cp:coreProperties>
</file>